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A55-F051-415E-BC54-8C3D704D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755-B420-4026-BFFA-0548998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0A8-5E97-4E1B-BDF5-689624A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41E-FE07-447A-AB5E-D681E58C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81C5-57BA-40B3-8763-09AA7279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202-2DAA-4E8D-A2EA-482FE46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37D8-86CB-4D10-90B7-825BA06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272D-BEA1-48EC-8030-437BD9FF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9E57-F514-4B8A-BF72-779C5A9E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D812-37E8-4D0C-90B4-7302241D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B9BF-2567-4239-BEF2-2242FA5D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317-3FF7-4533-8098-F6614ADB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18D8-7DE1-4B7B-843F-1ADC0B3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E97C-DCE2-4785-8355-063DE99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D242-EF5B-4AA5-A401-7EC84B79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3151-C953-44A4-BBED-94A2B2EE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7B1F-3D8D-4A69-A61F-19459D6A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5EB5-51A5-49F4-8A4A-2621BC13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6573A-3CE6-4A78-9EA3-05F2B7E9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DD84-A40B-4457-AA54-25C006ED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626D-84D4-4D38-BC7F-867DFFEC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ABA9-FE97-4BD2-94DE-B68EFCDF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F4F-369C-453F-B2E1-57CB39C2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C4D4-F7DE-4AAB-B860-51B579E9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1C66-E83A-4BC7-A3A3-92421438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4E27-BFA0-4039-85AD-7F83FEDD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4B8F9-2711-41CB-A3BB-4DB6B80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6E7E-DDAA-40E8-8393-F64E951E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EA7A-9614-45A2-A012-6902DC5B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4FD5-1C53-4ECE-874A-2C2D16B2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A3A7A-5ED5-4878-B563-CDF85AC8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F69D-C98E-4A1C-9A1B-A25805D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25C8-D258-41E9-B09F-01432BE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F3C-CCC3-4045-A385-AA23D754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CA21-DFAE-437E-9F4A-8A9F6B8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252A-EAEC-46FE-8311-09ED2221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2FFCD-A103-489F-8345-1234D8BA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AECC-660D-418C-8286-5FD2F163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3A03-8E8C-40DC-9E9D-4723862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B985-AF5D-4FD0-ADA5-0E0B0247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7A0B-E16B-4E86-9B00-C7059372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BA5A-CB4D-4A8B-A562-61AE247F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AFD1-D596-428E-8B86-A3A43BAB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5186-D970-48BC-B645-DE69CC8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993-768B-4DB6-90E0-39106378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D82A-553C-48F3-8788-421C598F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D5CC6-AB06-4B14-8E87-163D9CA0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C3F48-F8ED-4C3E-A3EC-4DEBAFF4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9CD27-069F-45A5-9A63-02406957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2CD7F-B989-48E0-A4D9-024B31A5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534BB-415C-49B8-87DF-FC1889B9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633B-E676-49C4-A10D-5B3D82C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EF404-28ED-42C0-A4A6-E3DF5754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3587-CD20-4F3D-A035-1D10B670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7169-DF2F-4902-BEFE-96137F12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608-37EB-4843-BF98-D1876AC8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1CBD8-03C1-43EC-A681-C4628AE0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4A0-3169-4877-AB3D-3248803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630-CC10-4949-8F1D-7DE34665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094-E560-4CE8-A23F-F174CBC9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F3E0-2711-42AA-88D8-C959D7DDD74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1FF9-B85D-415D-AD59-F597A12C5EC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EA12-A741-4696-91FE-0A1C22D7D0F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93DC-9716-4E04-ABA6-17CEC4093380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7536-0B43-4C28-BF56-06AB550A470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99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Bickham Script Pro Semibold"/>
              </a:rPr>
              <a:t>Creado por: Courtney Herring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Bickham Script Pro Semibold"/>
              </a:rPr>
              <a:t>Ms. Kianes   1 st  period  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5" descr="images.jpg"/>
          <p:cNvPicPr/>
          <p:nvPr/>
        </p:nvPicPr>
        <p:blipFill>
          <a:blip r:embed="rId2"/>
          <a:stretch/>
        </p:blipFill>
        <p:spPr>
          <a:xfrm>
            <a:off x="762120" y="1447920"/>
            <a:ext cx="2590560" cy="33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programa se llama The suit life of Zack and Cod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y tres personas en la famili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os son de Boston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ven en Hotel.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padre se llama Arw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tiene treinta y seis 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es alto, inteligente, y flac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 madre se llama Carr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a tiene treinta y ocho 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a es alto, morena,y flaca.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Arwin.jpg"/>
          <p:cNvPicPr/>
          <p:nvPr/>
        </p:nvPicPr>
        <p:blipFill>
          <a:blip r:embed="rId1"/>
          <a:stretch/>
        </p:blipFill>
        <p:spPr>
          <a:xfrm>
            <a:off x="5638680" y="160020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hijo se llama Zac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tiene catorce 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Zack es bajo, rubio, y mal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hijo se llama Cod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tiene catorce 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dy es bajo, rubio, y buen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 casa es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 casa tiene  cuart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 sala 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 cocina es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30:29Z</dcterms:created>
  <dc:creator>Administrator</dc:creator>
  <dc:description/>
  <dc:language>en-US</dc:language>
  <cp:lastModifiedBy>Administrator</cp:lastModifiedBy>
  <dcterms:modified xsi:type="dcterms:W3CDTF">2008-12-18T15:15:11Z</dcterms:modified>
  <cp:revision>12</cp:revision>
  <dc:subject/>
  <dc:title>The Sweet Life Of Zach and Cody</dc:title>
</cp:coreProperties>
</file>